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E9BE-581B-43CB-AB1D-975B0C3B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D91F-7523-4020-AA09-582490D4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10F-1B1E-4611-AC52-D1F5F08A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D69-3FEF-4CEB-8B34-4EEFC163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FCF-90E8-43FF-9126-B9321D8D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C765-04C3-47F7-89FF-19159CCB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3F2-4058-475A-9D97-1F95F949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B73-DA44-4EEC-986A-A2B7F981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FC1-6E0B-495F-8226-20952018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F75-434E-45C9-99B2-99A00AD9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CE90-B2BB-4053-9875-28759FD0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9D46-F0B5-4541-A52C-FFFA9F9A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B2E9E553-C049-4D0C-B84E-467F9E43CDAE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2nd Board Meet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NA1- Management 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7 Ma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, Coordinating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oject Statu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6 March – Project Star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 May – Month 15 (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9 March – Project Completion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Quar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1: March, April, 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2: June, July, Aug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3: September, October, Nov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4: December, January, Febru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DE98-6B49-431E-8FB5-624E09E67C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General Items w/r/t Account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keep track of items lo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“reasonable estimates” for quarterly s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spending to 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financial report (Form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 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9C9-0CA3-4CA7-A52A-577AF706C2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The 70% Rul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nual report highlighted some inconsistencies in the financial forms.  The inconsistencies were presented at the review along with an explanation of the decisions made to deal with the inconsisten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udited spending presented to the EC surpassed the threshold necessary to receive the next t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ed spending: 794,713 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% threshold: 733,600 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not yet received feedback from the annual report, but based on initial conversations, there should be no issue receiving the second tran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12B3-6C03-444A-8198-2F2BB0A951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onthly Report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s submitted on a monthly basis.  Short updates to provide Science Officer with information on the month to month status of the pro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the medium through which we signal unexpected accomplishments or delay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ing warning information in the months leading up to a problem is crucial to show that we knew the problem exis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ports are available on the wi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1143000"/>
          <a:ext cx="4038480" cy="39528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111C-C89C-467D-8F91-41B7E131F6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arterly Report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supposed to provide quarterly financial updates to the EC.  The information can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im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purpose is to show that the trends are cor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first year, we provided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for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urs/manpower expended 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 sp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ment, hardwar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(lease, one time payment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in addition to the standard monthl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EF19-A994-4B3E-AD76-EA8779C8E1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nnual Repor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separate agenda item to discuss the Annu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next year, things to impro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outline of final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 work packages more clos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re-use of monthly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mmunication with the financial contacts w/r/t the Form C and au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5C1-2F82-4157-B3E9-4D8B13C0D0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eliverabl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ons learn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want physical copies of all deliverables; digital/online is not considered su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review, the deliverables list is a checklist- they expect to see the deliverable completed (or with an explanation as to why it is not comple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new deliverables list based on the Next 18 Month Plan submitted during the annual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raft is available on the 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tover will happen after we receive comments/feedback from the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89A-149A-4683-A47C-E239E9012E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86200" y="571500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22575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523880" y="229716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66880" y="238932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3809880" y="2362320"/>
            <a:ext cx="836640" cy="404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4876920" y="2421000"/>
            <a:ext cx="888840" cy="287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6019920" y="241308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7802640" y="2133720"/>
            <a:ext cx="731880" cy="861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685800" y="3262320"/>
            <a:ext cx="849240" cy="587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0"/>
          <a:stretch/>
        </p:blipFill>
        <p:spPr>
          <a:xfrm>
            <a:off x="1752480" y="3346560"/>
            <a:ext cx="2246400" cy="590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1"/>
          <a:stretch/>
        </p:blipFill>
        <p:spPr>
          <a:xfrm>
            <a:off x="4338720" y="309888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kk-ctv-eng" descr=""/>
          <p:cNvPicPr/>
          <p:nvPr/>
        </p:nvPicPr>
        <p:blipFill>
          <a:blip r:embed="rId12"/>
          <a:stretch/>
        </p:blipFill>
        <p:spPr>
          <a:xfrm>
            <a:off x="5257800" y="327168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7767720" y="32479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587520" y="431784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1882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3025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4241880" y="438948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5235480" y="454644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9"/>
          <a:stretch/>
        </p:blipFill>
        <p:spPr>
          <a:xfrm>
            <a:off x="6835680" y="4611600"/>
            <a:ext cx="1698840" cy="327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0"/>
          <a:stretch/>
        </p:blipFill>
        <p:spPr>
          <a:xfrm>
            <a:off x="4038480" y="1219320"/>
            <a:ext cx="1067040" cy="711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923-3836-4925-9290-E72B3C67941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. Charles Yun</cp:lastModifiedBy>
  <dcterms:modified xsi:type="dcterms:W3CDTF">2007-05-24T10:16:08Z</dcterms:modified>
  <cp:revision>112</cp:revision>
  <dc:subject/>
  <dc:title>Slide 1</dc:title>
</cp:coreProperties>
</file>